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BC6-915B-48A9-A307-F6FEA1AF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493-7DD0-4ECA-9FD8-9ED02A4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1A72-D4F8-42E7-9DB7-7F006B90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2B5-7A87-45FB-8A2E-C588D6F8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3A0F-FC82-45A3-88FF-FA5B4A87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02B0-38FE-4A08-9F6A-1CB43EFD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DCDD-6DCA-4B33-B5B4-9D6D35DF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6049-DAA4-429A-A932-284A8579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9D43-30E6-458C-B53F-437240F8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2E59-95AF-4688-8ED8-13018E0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897E-D62E-4C23-9337-1D2D988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61B-2012-49FA-82D0-1C1DA140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C0FD-9D6C-4A69-8236-E06716F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F4F0-B9BE-44C3-AA4F-4AB5E13F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0928-260C-4000-B931-2A441A62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9922-C54A-4D5D-A134-0327C15A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499B-9A29-47F1-9D71-E6BC3D97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4C0-6F91-42F8-A906-66500B4B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F23-946E-4265-9149-8D91961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500-95BC-4606-8677-16B5595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5A5-1790-4FCA-9691-6842459D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E0D-5E60-485B-8F29-75BEBF9B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1F1-C5F2-4D9C-B737-E8E3E5C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2BE-9653-4985-8AC5-EEF2774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9625-AD43-467D-AFE0-ED5534B8C9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D0BE-53E7-4646-948C-35E8E513A2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sl.about.com/od/englishlistening/" TargetMode="External"/><Relationship Id="rId2" Type="http://schemas.openxmlformats.org/officeDocument/2006/relationships/hyperlink" Target="http://www.esl-lab.com/" TargetMode="External"/><Relationship Id="rId3" Type="http://schemas.openxmlformats.org/officeDocument/2006/relationships/hyperlink" Target="http://esl.about.com/cs/listening/" TargetMode="External"/><Relationship Id="rId4" Type="http://schemas.openxmlformats.org/officeDocument/2006/relationships/hyperlink" Target="http://esl.about.com/cs/listening/" TargetMode="External"/><Relationship Id="rId5" Type="http://schemas.openxmlformats.org/officeDocument/2006/relationships/hyperlink" Target="http://esl.about.com/cs/listening/" TargetMode="External"/><Relationship Id="rId6" Type="http://schemas.openxmlformats.org/officeDocument/2006/relationships/hyperlink" Target="http://www.manythings.org/el/" TargetMode="External"/><Relationship Id="rId7" Type="http://schemas.openxmlformats.org/officeDocument/2006/relationships/hyperlink" Target="http://www.manythings.org/el/" TargetMode="External"/><Relationship Id="rId8" Type="http://schemas.openxmlformats.org/officeDocument/2006/relationships/hyperlink" Target="http://www.manythings.org/el/" TargetMode="External"/><Relationship Id="rId9" Type="http://schemas.openxmlformats.org/officeDocument/2006/relationships/hyperlink" Target="http://www.elllo.org/" TargetMode="External"/><Relationship Id="rId10" Type="http://schemas.openxmlformats.org/officeDocument/2006/relationships/hyperlink" Target="http://www.elllo.org/" TargetMode="External"/><Relationship Id="rId11" Type="http://schemas.openxmlformats.org/officeDocument/2006/relationships/hyperlink" Target="http://www.elllo.org/" TargetMode="External"/><Relationship Id="rId12" Type="http://schemas.openxmlformats.org/officeDocument/2006/relationships/hyperlink" Target="http://www.elllo.org/music/coffee/coffee.htm" TargetMode="External"/><Relationship Id="rId13" Type="http://schemas.openxmlformats.org/officeDocument/2006/relationships/hyperlink" Target="http://www.elllo.org/music/coffee/coffee.htm" TargetMode="External"/><Relationship Id="rId14" Type="http://schemas.openxmlformats.org/officeDocument/2006/relationships/hyperlink" Target="http://iteslj.org/links/ESL/Listening/" TargetMode="External"/><Relationship Id="rId15" Type="http://schemas.openxmlformats.org/officeDocument/2006/relationships/hyperlink" Target="http://www.lclark.edu/~krauss/toppicks/listening.html" TargetMode="External"/><Relationship Id="rId16" Type="http://schemas.openxmlformats.org/officeDocument/2006/relationships/hyperlink" Target="http://www.lclark.edu/~krauss/toppicks/listening.html" TargetMode="External"/><Relationship Id="rId17" Type="http://schemas.openxmlformats.org/officeDocument/2006/relationships/hyperlink" Target="http://esl.about.com/library/quiz/bllisteningquiz.htm" TargetMode="External"/><Relationship Id="rId18" Type="http://schemas.openxmlformats.org/officeDocument/2006/relationships/hyperlink" Target="http://international.ouc.bc.ca/pronunciation/" TargetMode="External"/><Relationship Id="rId19" Type="http://schemas.openxmlformats.org/officeDocument/2006/relationships/hyperlink" Target="http://international.ouc.bc.ca/pronunciation/" TargetMode="External"/><Relationship Id="rId20" Type="http://schemas.openxmlformats.org/officeDocument/2006/relationships/hyperlink" Target="http://international.ouc.bc.ca/pronunciation/" TargetMode="External"/><Relationship Id="rId2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 Process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sten and take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n compare your notes with my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re you doing with your listening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to play the audio segment for students to listen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real life, it is not ‘replaye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ace-to-face conversation – chance to ask for clarification and re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y two or mor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5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 task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dicti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st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compre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5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Live’ Listening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cher reading a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ors / guest 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 – the role of the teacher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er – tell students exactly what their listening purpose is, give them clear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e operator: try material before taking it into class; playback; stop and start the machine according to students’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back organiser: compare their answers in pairs and then ask for answers from the class in general or from pairs in particular; be suppor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pter: have students listen again to notice a variety of language and spoken features; offer script di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lesson sequen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can occur at a number of points in a teaching sequenc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mping of point for activities which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stage of a ‘listening and acting out’ sequence where students role-play the situation they have heard on the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listening may be a prelude to a piece of writing which is the main focus of a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ing training is the central focus of a le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ing lesson sequences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listening sequences involve a mixture of language skills, though one, in particular, is often the main focus of th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gist on first hearing before moving on to different task skil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 for specific information straight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nd of music – powerful, speaks to our emotion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 a film music and get students to say what kind of film they think it comes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stories based on the mood of the music they 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ity: Ir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nd of music – powerful, speaks to our emotion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g lyric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students bring their own favourite songs to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lder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ongs you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gs appropriate in terms of topic and subject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5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Example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553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viewing a stranger: page 2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ry I’m late: page 2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phone messages: page 2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FO: page 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d a nice time, but… : page 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post office: page 2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onic: page 2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76230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Listening using the Interne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49240" y="2361960"/>
            <a:ext cx="7685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Listening Skills and Activities-Effective Listening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esl.about.com/od/englishlistenin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ndall’s ESL Cyber Listening Lab </a:t>
            </a: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esl-lab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ening Skill Practice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esl.about.com/cs/listening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Listening Room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www.manythings.org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/e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lish Language Listening Lab Online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www.elllo.org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http://</a:t>
            </a:r>
            <a:r>
              <a:rPr b="0" lang="en-GB" sz="20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www.elllo.org/music/coffee/coffe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ESL: Listening </a:t>
            </a:r>
            <a:r>
              <a:rPr b="0" lang="nb-NO" sz="20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http://iteslj.org/links/ESL/Listenin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L Independent Study Lab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e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http://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www.lclark.edu/~krauss/toppicks/listening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stening Quizzes </a:t>
            </a:r>
            <a:r>
              <a:rPr b="0" lang="nl-NL" sz="20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http://esl.about.com/library/quiz/bllisteningqui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ish Pronunciation / Listening 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http://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international.ouc.bc.ca</a:t>
            </a: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/pronunciatio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br>
              <a:rPr sz="1200"/>
            </a:br>
            <a:br>
              <a:rPr sz="1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of student listening skill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extensive and intensive listening material and procedures.</a:t>
            </a:r>
            <a:br>
              <a:rPr sz="46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y to hear voices other than the teacher’s  enables students to acquire good speaking habits as a result of the spoken English they absorb, and helps to improve their pronun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listening can have a dramatic effect to a student’s language learning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ve listen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side the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stereos as they travel from one plac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 increases when students make their own choices about what they are going to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listening sources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readers with a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wn copies of course audio DVDs / iPod / 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 DVDs / iPod / tapes of authen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stereos as they travel from one plac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ation increases when students make their own choices about what they are going to list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listening sourc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tensive listening to work effectively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on of appropriate material clearly marked for level, topic and gen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pt like simplified readers in a perman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 a record of which students have borrowed which tapes; Involve students in the tasks of record-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extensive listen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perform a number of task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ir responses to what they have heard in a personal 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 in prepared report forms: list the topic, assess the level of difficulty, and summarise the contents of the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ening p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site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their information with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: using taped material / material on audio CD/DV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students to hear a variety of different voices apart from just their own teacher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of different characters, especially when real people are t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ety of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o material: portable and readily available, cheap, relatively in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: using taped material / material on audio CD/DV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big classrooms, poor acou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one has to listen at the same speed, a speed dictated by the tape, not by the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Listening</a:t>
            </a:r>
            <a:br>
              <a:rPr sz="4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listening: using taped material / material on audio CD/DV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problem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audio source and machine quality before using them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of the playback machine – sou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a number of machines for students to listen at their own speed or languag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20:36:32Z</dcterms:created>
  <dc:creator>Sofocleous</dc:creator>
  <dc:description/>
  <dc:language>en-US</dc:language>
  <cp:lastModifiedBy>Student</cp:lastModifiedBy>
  <dcterms:modified xsi:type="dcterms:W3CDTF">2008-03-17T09:14:34Z</dcterms:modified>
  <cp:revision>3</cp:revision>
  <dc:subject/>
  <dc:title>Listening Processes</dc:title>
</cp:coreProperties>
</file>